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C10-F31D-482C-91D2-029B6CAD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0D5-BD31-41FC-8E9E-1864BEC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B36-2641-4D45-B424-C2F66F0A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C22-C19D-44A6-A900-B4229501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504-D4EC-4427-BE56-4526F1E9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087-B209-4134-851D-9946EAC8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8D6-7682-4995-89FB-681B0FA6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9DF-5962-4659-A07E-277658C5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6EA-3758-4EF6-B446-8CE737CA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CED-4703-4484-96FF-FB29B5BC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207-A829-4B2D-A998-F7C3494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B36-9C89-4387-B957-78771ACF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1146-FDBB-472F-AFA6-EFA87832DBB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990720"/>
            <a:ext cx="16002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uede cambiar de temper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990720"/>
            <a:ext cx="1981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rce una presión sobre la superficie terres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990720"/>
            <a:ext cx="20574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tá compuesta de masas de aire, temperatura, humedad y presión di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990720"/>
            <a:ext cx="914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mu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38560" y="304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ATMÓ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temperat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pre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17524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precipit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1752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v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209680"/>
            <a:ext cx="2225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stituyen los princip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26668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LEMENTOS DEL CL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200400"/>
            <a:ext cx="5791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explican por un conjunto de mecanismos e influencias que constituy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6920" y="3733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ACTORES DEL CL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27240" y="4267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astronóm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4267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teorológ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37320" y="4267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geográf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8640" y="4724280"/>
            <a:ext cx="761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36720" y="4724280"/>
            <a:ext cx="10666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vimientos de la Tier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84640" y="472428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sas de 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22720" y="4724280"/>
            <a:ext cx="914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entros de a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13440" y="4724280"/>
            <a:ext cx="761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56440" y="4724280"/>
            <a:ext cx="761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94520" y="4724280"/>
            <a:ext cx="14479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istribución de tierras y m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36920" y="5486400"/>
            <a:ext cx="297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 actuación conjunta de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095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Distribución de los climas de Espa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5" idx="1"/>
            <a:endCxn id="41" idx="0"/>
          </p:cNvCxnSpPr>
          <p:nvPr/>
        </p:nvCxnSpPr>
        <p:spPr>
          <a:xfrm flipV="1" rot="10800000">
            <a:off x="1409040" y="534240"/>
            <a:ext cx="1829520" cy="456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41" idx="2"/>
            <a:endCxn id="46" idx="0"/>
          </p:cNvCxnSpPr>
          <p:nvPr/>
        </p:nvCxnSpPr>
        <p:spPr>
          <a:xfrm rot="16200000">
            <a:off x="1258200" y="1600920"/>
            <a:ext cx="303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6" idx="2"/>
            <a:endCxn id="50" idx="1"/>
          </p:cNvCxnSpPr>
          <p:nvPr/>
        </p:nvCxnSpPr>
        <p:spPr>
          <a:xfrm flipH="1" rot="16200000">
            <a:off x="2343600" y="1125000"/>
            <a:ext cx="303840" cy="2172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45" idx="1"/>
            <a:endCxn id="42" idx="0"/>
          </p:cNvCxnSpPr>
          <p:nvPr/>
        </p:nvCxnSpPr>
        <p:spPr>
          <a:xfrm flipH="1" flipV="1" rot="10800000">
            <a:off x="3238560" y="534240"/>
            <a:ext cx="343080" cy="456480"/>
          </a:xfrm>
          <a:prstGeom prst="bentConnector4">
            <a:avLst>
              <a:gd name="adj1" fmla="val -256617"/>
              <a:gd name="adj2" fmla="val -1001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45" idx="3"/>
            <a:endCxn id="44" idx="0"/>
          </p:cNvCxnSpPr>
          <p:nvPr/>
        </p:nvCxnSpPr>
        <p:spPr>
          <a:xfrm>
            <a:off x="6134040" y="534600"/>
            <a:ext cx="1486440" cy="456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45" idx="3"/>
            <a:endCxn id="43" idx="0"/>
          </p:cNvCxnSpPr>
          <p:nvPr/>
        </p:nvCxnSpPr>
        <p:spPr>
          <a:xfrm flipH="1">
            <a:off x="5829120" y="534600"/>
            <a:ext cx="305280" cy="456480"/>
          </a:xfrm>
          <a:prstGeom prst="bentConnector4">
            <a:avLst>
              <a:gd name="adj1" fmla="val -313223"/>
              <a:gd name="adj2" fmla="val -1001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42" idx="2"/>
            <a:endCxn id="47" idx="0"/>
          </p:cNvCxnSpPr>
          <p:nvPr/>
        </p:nvCxnSpPr>
        <p:spPr>
          <a:xfrm flipH="1" rot="16200000">
            <a:off x="3449160" y="1581840"/>
            <a:ext cx="303120" cy="38520"/>
          </a:xfrm>
          <a:prstGeom prst="bentConnector3">
            <a:avLst>
              <a:gd name="adj1" fmla="val 506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43" idx="2"/>
            <a:endCxn id="48" idx="0"/>
          </p:cNvCxnSpPr>
          <p:nvPr/>
        </p:nvCxnSpPr>
        <p:spPr>
          <a:xfrm rot="16200000">
            <a:off x="5769000" y="1692360"/>
            <a:ext cx="1206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4" idx="2"/>
            <a:endCxn id="49" idx="0"/>
          </p:cNvCxnSpPr>
          <p:nvPr/>
        </p:nvCxnSpPr>
        <p:spPr>
          <a:xfrm flipH="1" rot="16200000">
            <a:off x="7396200" y="1490760"/>
            <a:ext cx="485640" cy="38160"/>
          </a:xfrm>
          <a:prstGeom prst="bentConnector3">
            <a:avLst>
              <a:gd name="adj1" fmla="val 505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7" idx="2"/>
            <a:endCxn id="50" idx="0"/>
          </p:cNvCxnSpPr>
          <p:nvPr/>
        </p:nvCxnSpPr>
        <p:spPr>
          <a:xfrm flipH="1" rot="16200000">
            <a:off x="4081680" y="1596960"/>
            <a:ext cx="150480" cy="1074960"/>
          </a:xfrm>
          <a:prstGeom prst="bentConnector3">
            <a:avLst>
              <a:gd name="adj1" fmla="val 4844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48" idx="2"/>
            <a:endCxn id="50" idx="0"/>
          </p:cNvCxnSpPr>
          <p:nvPr/>
        </p:nvCxnSpPr>
        <p:spPr>
          <a:xfrm rot="5400000">
            <a:off x="5186160" y="1567080"/>
            <a:ext cx="150480" cy="1135440"/>
          </a:xfrm>
          <a:prstGeom prst="bentConnector3">
            <a:avLst>
              <a:gd name="adj1" fmla="val 4844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49" idx="2"/>
            <a:endCxn id="50" idx="3"/>
          </p:cNvCxnSpPr>
          <p:nvPr/>
        </p:nvCxnSpPr>
        <p:spPr>
          <a:xfrm rot="5400000">
            <a:off x="6580440" y="1285920"/>
            <a:ext cx="303840" cy="1851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50" idx="2"/>
            <a:endCxn id="51" idx="0"/>
          </p:cNvCxnSpPr>
          <p:nvPr/>
        </p:nvCxnSpPr>
        <p:spPr>
          <a:xfrm rot="16200000">
            <a:off x="4619160" y="2591640"/>
            <a:ext cx="150480" cy="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51" idx="2"/>
            <a:endCxn id="52" idx="0"/>
          </p:cNvCxnSpPr>
          <p:nvPr/>
        </p:nvCxnSpPr>
        <p:spPr>
          <a:xfrm flipH="1" rot="16200000">
            <a:off x="4626720" y="3102480"/>
            <a:ext cx="165600" cy="30600"/>
          </a:xfrm>
          <a:prstGeom prst="bentConnector3">
            <a:avLst>
              <a:gd name="adj1" fmla="val 485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2" idx="2"/>
            <a:endCxn id="53" idx="0"/>
          </p:cNvCxnSpPr>
          <p:nvPr/>
        </p:nvCxnSpPr>
        <p:spPr>
          <a:xfrm flipH="1" rot="16200000">
            <a:off x="4634280" y="3597480"/>
            <a:ext cx="226800" cy="46440"/>
          </a:xfrm>
          <a:prstGeom prst="bentConnector3">
            <a:avLst>
              <a:gd name="adj1" fmla="val 510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53" idx="2"/>
            <a:endCxn id="55" idx="0"/>
          </p:cNvCxnSpPr>
          <p:nvPr/>
        </p:nvCxnSpPr>
        <p:spPr>
          <a:xfrm rot="5400000">
            <a:off x="4683960" y="4180680"/>
            <a:ext cx="165240" cy="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53" idx="1"/>
            <a:endCxn id="54" idx="0"/>
          </p:cNvCxnSpPr>
          <p:nvPr/>
        </p:nvCxnSpPr>
        <p:spPr>
          <a:xfrm flipV="1" rot="10800000">
            <a:off x="1874520" y="3917880"/>
            <a:ext cx="1562400" cy="349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53" idx="3"/>
            <a:endCxn id="56" idx="0"/>
          </p:cNvCxnSpPr>
          <p:nvPr/>
        </p:nvCxnSpPr>
        <p:spPr>
          <a:xfrm>
            <a:off x="6103800" y="3917880"/>
            <a:ext cx="1105200" cy="349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4" idx="2"/>
            <a:endCxn id="65" idx="0"/>
          </p:cNvCxnSpPr>
          <p:nvPr/>
        </p:nvCxnSpPr>
        <p:spPr>
          <a:xfrm flipH="1" rot="16200000">
            <a:off x="4801680" y="5944680"/>
            <a:ext cx="272520" cy="30600"/>
          </a:xfrm>
          <a:prstGeom prst="bentConnector3">
            <a:avLst>
              <a:gd name="adj1" fmla="val 50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914400" y="4267080"/>
            <a:ext cx="2057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4267080"/>
            <a:ext cx="2895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4267080"/>
            <a:ext cx="2514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495680"/>
            <a:ext cx="20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irculación general atmosfé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15:16:41Z</dcterms:created>
  <dc:creator>Salvador Sanchez Garcia</dc:creator>
  <dc:description/>
  <dc:language>en-US</dc:language>
  <cp:lastModifiedBy>Salvador</cp:lastModifiedBy>
  <dcterms:modified xsi:type="dcterms:W3CDTF">2007-10-14T10:11:42Z</dcterms:modified>
  <cp:revision>3</cp:revision>
  <dc:subject/>
  <dc:title>Presentación de PowerPoint</dc:title>
</cp:coreProperties>
</file>